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7DF-1496-4E1B-A48B-9076703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C32-EC06-4AF7-BBC0-2D76A52D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6EB-1535-4663-99C0-CFF5ACFD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35A-D9B6-4058-ADB3-BB15B2CE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C63-B1C7-43C4-98E5-83288B72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DAC-D654-401E-A10B-3AACA1CE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30B-C062-4B1F-9ED5-5EF8B8B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D35-F0C2-49FB-85E3-CC7F847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628-17F2-429E-9827-17A9341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149-DA30-40BC-99D5-499CC09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058-3AAA-48FE-B544-83B9A1F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6E9-DC30-4BF7-BF6C-7AA3A99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9F87-F172-452D-8CD9-2876810EC6E6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gas.at.tf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ypenrad und Nadel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hermo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intenstrahl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toelektrische Drucker (Las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F42-DF7A-4C9C-A0BB-413D4235BC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druck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druck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arbeit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seitenorienti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Seite vor Druck im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s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4 - Seite benötigt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ca.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1,2 MB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8E5-F0EC-4DF1-89F9-6F78BC62AD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rsich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-Drucker produzier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fähr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zol u. Sty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reits in geringer Dosieru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Räum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reichend lü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706-37B2-4AE9-9026-FF154EF1B8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Times New Roman"/>
              </a:rPr>
              <a:t>Home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Weitere Arbeiten und vieles mehr auf meiner Homepage: </a:t>
            </a:r>
            <a:r>
              <a:rPr b="0" lang="de-AT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igas.at.tf</a:t>
            </a: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26C-E9F2-48AA-A448-8D78808005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 b e r s i c h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523880"/>
            <a:ext cx="342900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ACT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nrad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14240" y="2895480"/>
            <a:ext cx="205740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895480"/>
            <a:ext cx="198108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del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08A-BD30-4B6E-847A-AE387680E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penrad und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362320"/>
            <a:ext cx="6477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nrad-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r mehr selten in Gebr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el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 Firmen, zuverlässig und preisgünst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urchschläg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ckgeschwindigke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a 80 - 600 Zeichen pro Se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6DB-1ED3-4364-AE4E-EDD7853D7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-IMPACT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uppe d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schlagfrei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teroberu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xtrem le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ehr schn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ute Druckqualitä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0B5-3AE1-41C4-ABFE-D96C4FC3F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Der Thermo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7724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druck von digitalen 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Transfer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spezielle Farbfolie wird unter Thermodruckkopf durch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Sublimations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Wachs wird verdampft und dringt in Spezialpapier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illiante Farben        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ehr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A2B-5FC0-4520-BF0F-CE1D4C0839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Tintenstrahl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 Heimbereich beliebtester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inger Anschaffungspr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ehnliches Schriftb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he Druckgeschwind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73A-1D41-4049-8278-D3A94333D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ubble-Jet-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80880" y="2133720"/>
            <a:ext cx="3886200" cy="33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72000" y="2286000"/>
            <a:ext cx="45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beitet mit Hitze un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ebensdauer Druckkopf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200 mio. Zeich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entspricht ca 50 000 Seit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Druckkopf in Tintenpatron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integrier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336-559D-4528-9D7F-CBC033356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ezo - 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362320"/>
            <a:ext cx="4343400" cy="257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1905120"/>
            <a:ext cx="4572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sentlich höhe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Lebensda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2 Mrd. Zeich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= 500 000 S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neller als Bubble -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jeder Düse 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Piezo- Keramik-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13F-760F-471E-9167-A045123B60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otoelektrische Druck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 a s e r  /  L E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2133720"/>
            <a:ext cx="4114800" cy="3449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0" y="1752480"/>
            <a:ext cx="4572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erdrucker biet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höchste Qualität (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ßerordentlich ho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ruckgeschwind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t wi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xerografische Fotokopi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wendiges Spiegel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29C-F01A-4ADC-AF5C-B9B31216B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9:07:33Z</dcterms:created>
  <dc:creator>GASPERL</dc:creator>
  <dc:description/>
  <dc:language>en-US</dc:language>
  <cp:lastModifiedBy>Michael</cp:lastModifiedBy>
  <dcterms:modified xsi:type="dcterms:W3CDTF">2003-04-15T23:37:54Z</dcterms:modified>
  <cp:revision>21</cp:revision>
  <dc:subject/>
  <dc:title>Kein Folientitel</dc:title>
</cp:coreProperties>
</file>